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FCA-EE76-48B0-B3FC-54B501A5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57C-782C-4D4F-8D47-D550AA06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D28-19C5-4371-B535-3DDB22FF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B0E-85D4-4ABD-BDA4-3017C108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E27-6E87-4730-81CF-1E0A1F0C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94B-B121-4C5E-9D18-47BD2782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A0C-406B-489F-B4DD-E8F52C41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113-69BC-4095-8382-623E9339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F45-BF43-4A33-BD02-19E9827E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6B9-3C29-4079-B69E-8CE30644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AEA-9806-4CA6-A417-FC1217E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CC2-8FEE-42DF-AE7C-C4F63340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323280"/>
            <a:ext cx="2460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FFCF-2292-4848-9109-7AF0BD758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7599240"/>
            <a:ext cx="7772400" cy="2459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777960" y="849312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ottOldStyle"/>
              </a:rPr>
              <a:t>Triple click and type the topic of your Flap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9432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88620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8294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8294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88620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9432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228600" y="435924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text for part or ste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2057400" y="435924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text for part or step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4038480" y="435924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text for part or step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5943600" y="435924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text for part or step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17"/>
          <p:cNvSpPr/>
          <p:nvPr/>
        </p:nvSpPr>
        <p:spPr>
          <a:xfrm>
            <a:off x="-2743200" y="609480"/>
            <a:ext cx="1935000" cy="268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graphics or pictures in these bo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7599240"/>
            <a:ext cx="7772400" cy="2459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9432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886200" y="3886200"/>
            <a:ext cx="194328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5829480" y="3886200"/>
            <a:ext cx="1942920" cy="371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58294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3886200" y="0"/>
            <a:ext cx="194328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943280" y="0"/>
            <a:ext cx="1942920" cy="388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4038480" y="1066680"/>
            <a:ext cx="16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cover text for step 2 .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t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box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2133720" y="1036800"/>
            <a:ext cx="16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cover text for step 3.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t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box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152280" y="1066680"/>
            <a:ext cx="16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cover text for step 4.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t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box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7"/>
          <p:cNvSpPr/>
          <p:nvPr/>
        </p:nvSpPr>
        <p:spPr>
          <a:xfrm>
            <a:off x="-3048120" y="609480"/>
            <a:ext cx="2849760" cy="3353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pictures in these boxes, add text, or do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5943600" y="1036800"/>
            <a:ext cx="16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le click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ext box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the cover text for step 1 .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t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box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Decision 19"/>
          <p:cNvSpPr/>
          <p:nvPr/>
        </p:nvSpPr>
        <p:spPr>
          <a:xfrm>
            <a:off x="-3276720" y="5334120"/>
            <a:ext cx="2971800" cy="2819160"/>
          </a:xfrm>
          <a:prstGeom prst="flowChartDecision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slide one.  Feed the paper back through and print slide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owchart: Decision 20"/>
          <p:cNvSpPr/>
          <p:nvPr/>
        </p:nvSpPr>
        <p:spPr>
          <a:xfrm>
            <a:off x="7848720" y="4419720"/>
            <a:ext cx="3429000" cy="3352680"/>
          </a:xfrm>
          <a:prstGeom prst="flowChartDecision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printing cut between vertical slits between flaps.  Cut between the top rectangle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5:58:47Z</dcterms:created>
  <dc:creator>ccunningham</dc:creator>
  <dc:description/>
  <dc:language>en-US</dc:language>
  <cp:lastModifiedBy>Valued Acer Customer</cp:lastModifiedBy>
  <dcterms:modified xsi:type="dcterms:W3CDTF">2010-07-12T13:55:34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